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767-8198-414E-A8FF-C24DCB277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dsholder til slide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19D3-75DA-4DC1-83C2-1D48BEF594CE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3C0-7359-4942-9153-B8D0810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C18-73C3-49E8-BB3B-FFD2722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4CB-CDE3-4379-9950-457F1C25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49F-F9E9-4CF5-9D0A-50B7EE94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1B8-ACEB-4A59-A9F5-07208269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C111-1745-48FB-91E3-1CB8746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FD8B-7837-4F65-B772-F4B39B13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9131-DDD6-43DC-A5D2-839F5F1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A9F-01A9-4F23-A650-EB607B0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54AA-26A4-4B63-A9E4-493C643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274-C62C-4DBD-BABC-3C29BFF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B1C-0007-4A33-9C0B-DCF31DF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5CC-CE86-4C52-B59A-85C9962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861-EEF0-4286-9CD9-541642E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6726-35C9-4C61-BA20-0562BFC0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B27-616F-43E8-BD39-D910180D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47B-A90B-451F-9F77-6DCB4546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F722-7B17-4CED-B10B-3588F5EA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CBF5-C047-47D5-B5BB-AFA8B70F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7B49-751A-4700-B297-9B9392BF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7720-05D2-439B-81BB-864F83F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B9EC-A3BB-4CF2-B3A3-8F583B13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EED-8C53-4C88-BD9E-E107322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8E5CF-C9FC-4666-BA27-E10898D4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C0D9-5D71-4432-8A88-692F917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AB3B-D9F9-4962-A976-B682387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E562-A528-4D00-BDB8-E8272FE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0277-B3C5-4608-9D81-24E400A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5E24-DE76-468E-920D-6D08FA0F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2291-1573-4DFD-B764-075C9B40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A32-44C2-4D0D-A89B-C5954FA7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096-4B77-4241-BE65-32F3F4EF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82872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E84-72FA-4F61-BACD-8091FB75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632-2B75-4842-AB1C-C842C10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37D-FB1E-4A21-9B41-7A7703B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1D3-0A29-41E4-A781-AF4691D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153B-E1AD-4CFA-B883-E73AFFFC5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ktangel 11"/>
          <p:cNvSpPr/>
          <p:nvPr/>
        </p:nvSpPr>
        <p:spPr>
          <a:xfrm>
            <a:off x="9815400" y="652320"/>
            <a:ext cx="1578240" cy="71460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ktangel 12"/>
          <p:cNvSpPr/>
          <p:nvPr/>
        </p:nvSpPr>
        <p:spPr>
          <a:xfrm>
            <a:off x="10069200" y="8161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Calibri"/>
              </a:rPr>
              <a:t>6. lek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98C-EA74-4870-B134-677332F85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ktangel 10"/>
          <p:cNvSpPr/>
          <p:nvPr/>
        </p:nvSpPr>
        <p:spPr>
          <a:xfrm>
            <a:off x="0" y="12600"/>
            <a:ext cx="12192120" cy="636840"/>
          </a:xfrm>
          <a:prstGeom prst="rect">
            <a:avLst/>
          </a:prstGeom>
          <a:solidFill>
            <a:srgbClr val="e2f0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ktangel 6"/>
          <p:cNvSpPr/>
          <p:nvPr/>
        </p:nvSpPr>
        <p:spPr>
          <a:xfrm>
            <a:off x="885960" y="187200"/>
            <a:ext cx="29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ge forbindelse 7"/>
          <p:cNvSpPr/>
          <p:nvPr/>
        </p:nvSpPr>
        <p:spPr>
          <a:xfrm>
            <a:off x="-7920" y="633240"/>
            <a:ext cx="12192120" cy="0"/>
          </a:xfrm>
          <a:prstGeom prst="line">
            <a:avLst/>
          </a:prstGeom>
          <a:ln w="381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ktangel 8"/>
          <p:cNvSpPr/>
          <p:nvPr/>
        </p:nvSpPr>
        <p:spPr>
          <a:xfrm>
            <a:off x="0" y="6721560"/>
            <a:ext cx="12192120" cy="1951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ktangel 9"/>
          <p:cNvSpPr/>
          <p:nvPr/>
        </p:nvSpPr>
        <p:spPr>
          <a:xfrm>
            <a:off x="8447040" y="233280"/>
            <a:ext cx="290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2060"/>
                </a:solidFill>
                <a:latin typeface="Calibri"/>
              </a:rPr>
              <a:t>Morten Vartdal  |  FKF  |  20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ge forbindelse 11"/>
          <p:cNvSpPr/>
          <p:nvPr/>
        </p:nvSpPr>
        <p:spPr>
          <a:xfrm>
            <a:off x="907920" y="4332240"/>
            <a:ext cx="10329840" cy="0"/>
          </a:xfrm>
          <a:prstGeom prst="line">
            <a:avLst/>
          </a:prstGeom>
          <a:ln w="3168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4820-56B9-4F1C-A53D-9130E0C74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60520" y="24512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6500" spc="-1" strike="noStrike">
                <a:solidFill>
                  <a:srgbClr val="002060"/>
                </a:solidFill>
                <a:latin typeface="Calibri"/>
              </a:rPr>
              <a:t>Bjergprædikenen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Spørgsmål til artiklen om De 10 Bud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153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ad kendetegner de fem Mosebøg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em bestemte over jøderne i henholdsvis Egypten og ørken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or mange love gav Gud det jødiske fol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ilke love er de mest kendt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ilke forskelle ser I på henholdsvis den lutherske/katolske og jødiske inddeling af de 10 bu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Spørgsmål til artiklen om jødernes forståelse</a:t>
            </a:r>
            <a:br>
              <a:rPr sz="3600"/>
            </a:b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af De 10 Bud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Rektangel 4"/>
          <p:cNvSpPr/>
          <p:nvPr/>
        </p:nvSpPr>
        <p:spPr>
          <a:xfrm>
            <a:off x="838080" y="2136600"/>
            <a:ext cx="10180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rklar hvad henholdsvis jøde og jødedom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ad er vigtigt at kende til for at forstå lidt af jødedomm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 mange love er der i alt i Mosebøgerne ifølge jødisk trad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for mener religiøse jøder, at Moses fik både en skriftlig og mundtlig lo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dan vil du forklare, hvad jødernes forståelse af De 10 Bud 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vorfor tror du, at det er vigtigt at kende til jødernes forståelse af den skriftlige lov, når du skal arbejde med Bjergprædiken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Hvad tror I, Jesus har sagt om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Rektangel 6"/>
          <p:cNvSpPr/>
          <p:nvPr/>
        </p:nvSpPr>
        <p:spPr>
          <a:xfrm>
            <a:off x="7473960" y="267696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Det Gamle Test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ktangel 7"/>
          <p:cNvSpPr/>
          <p:nvPr/>
        </p:nvSpPr>
        <p:spPr>
          <a:xfrm>
            <a:off x="4920120" y="23468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Vre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ktangel 8"/>
          <p:cNvSpPr/>
          <p:nvPr/>
        </p:nvSpPr>
        <p:spPr>
          <a:xfrm>
            <a:off x="2251440" y="540900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Ægteskab og skilsmi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ktangel 9"/>
          <p:cNvSpPr/>
          <p:nvPr/>
        </p:nvSpPr>
        <p:spPr>
          <a:xfrm>
            <a:off x="3026160" y="289908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At svæ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ktangel 10"/>
          <p:cNvSpPr/>
          <p:nvPr/>
        </p:nvSpPr>
        <p:spPr>
          <a:xfrm>
            <a:off x="2770920" y="423900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j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ktangel 11"/>
          <p:cNvSpPr/>
          <p:nvPr/>
        </p:nvSpPr>
        <p:spPr>
          <a:xfrm>
            <a:off x="895320" y="221508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t give pe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ktangel 12"/>
          <p:cNvSpPr/>
          <p:nvPr/>
        </p:nvSpPr>
        <p:spPr>
          <a:xfrm>
            <a:off x="6814080" y="45154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Bø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ktangel 13"/>
          <p:cNvSpPr/>
          <p:nvPr/>
        </p:nvSpPr>
        <p:spPr>
          <a:xfrm>
            <a:off x="4554360" y="48279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a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ktangel 14"/>
          <p:cNvSpPr/>
          <p:nvPr/>
        </p:nvSpPr>
        <p:spPr>
          <a:xfrm>
            <a:off x="992160" y="59878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okus i liv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ktangel 15"/>
          <p:cNvSpPr/>
          <p:nvPr/>
        </p:nvSpPr>
        <p:spPr>
          <a:xfrm>
            <a:off x="9071640" y="17848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Bekymr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ktangel 16"/>
          <p:cNvSpPr/>
          <p:nvPr/>
        </p:nvSpPr>
        <p:spPr>
          <a:xfrm>
            <a:off x="860400" y="36597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At dømme and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ktangel 17"/>
          <p:cNvSpPr/>
          <p:nvPr/>
        </p:nvSpPr>
        <p:spPr>
          <a:xfrm>
            <a:off x="6822360" y="5620320"/>
            <a:ext cx="45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Hvordan andre mennesker skal beha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ktangel 18"/>
          <p:cNvSpPr/>
          <p:nvPr/>
        </p:nvSpPr>
        <p:spPr>
          <a:xfrm>
            <a:off x="4830480" y="340884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Calibri"/>
              </a:rPr>
              <a:t>Falske undervis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ktangel 19"/>
          <p:cNvSpPr/>
          <p:nvPr/>
        </p:nvSpPr>
        <p:spPr>
          <a:xfrm>
            <a:off x="8821080" y="4415400"/>
            <a:ext cx="24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tabelse og evigt l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28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I har hørt… Men jeg siger jer…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2422080"/>
            <a:ext cx="670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 til de gamle: (om vred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21-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ægteskabsbrud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27-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r er sagt: (om skilsmiss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31-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også hørt, at der er sagt til de gamle: (om at sværge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33-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gengældelse). Men jeg siger jer:…”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 – Matt 5,38-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 har hørt, at der er sagt: (om fjendekærlighed). Men jeg siger jer:…” </a:t>
            </a:r>
            <a:r>
              <a:rPr b="0" i="1" lang="da-DK" sz="2000" spc="-1" strike="noStrike">
                <a:solidFill>
                  <a:srgbClr val="000000"/>
                </a:solidFill>
                <a:latin typeface="Calibri"/>
              </a:rPr>
              <a:t>– Matt 5,43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3:39:52Z</dcterms:created>
  <dc:creator>Laila Nygaard</dc:creator>
  <dc:description/>
  <dc:language>en-US</dc:language>
  <cp:lastModifiedBy>Laila Nygaard</cp:lastModifiedBy>
  <dcterms:modified xsi:type="dcterms:W3CDTF">2018-10-26T11:40:20Z</dcterms:modified>
  <cp:revision>2</cp:revision>
  <dc:subject/>
  <dc:title> Bjergprædikenen </dc:title>
</cp:coreProperties>
</file>